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2236-7A9A-4F07-93AF-A7800918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88DD-D8F7-4555-9139-F0C74961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28D6-DE20-4561-908B-C28F9074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79FC-9139-4B2A-8DB1-3E1B7989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A4FA-4E7A-47E8-90DA-77F8F5F8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CCA1-1F18-479B-9DD3-A80F7929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0EDE-B04B-49B1-920C-82FEC937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15EB-88C8-4C7A-BAAD-88E888E9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881E-8EE8-4E1B-A875-D0569D3C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5EBD-E764-4A3E-89BE-4CC06329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6367-C250-4426-B863-169456A6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AF81-4ADC-4CF9-AB74-6A64501B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5C87-F079-41F8-BCBC-0E31E434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4669-7AFF-429E-B680-1BEF6217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27C1-DBF7-4B19-A19F-20EE6354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88F7-CB10-4610-BB92-6E4CE2C7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F8CD-DAEF-4B6B-B3E6-162B47F0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F2FC-CD26-43EC-B0EB-DF60DECF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52D7-34ED-49D0-8736-8B961DD2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073A-5B57-41D0-B6FF-F7E6FB2E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2591-C787-4A0E-A0EA-04AC6FB8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20ED-68FC-4961-BB88-DD7BAA7E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1DCB-F562-4275-975D-0AD434EB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9B78-E802-4EF3-9C81-1FAA5EAB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B2A4-B761-4491-93BA-29A73922215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8D25-D7C2-42FD-96E0-35A042FBEE5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istoryteacher.net/USProjects/USQuizzes/BritEmpire2.htm" TargetMode="External"/><Relationship Id="rId2" Type="http://schemas.openxmlformats.org/officeDocument/2006/relationships/hyperlink" Target="http://www.historyteacher.net/USProjects/USQuizzes/Constitution2.htm" TargetMode="External"/><Relationship Id="rId3" Type="http://schemas.openxmlformats.org/officeDocument/2006/relationships/hyperlink" Target="http://www.historyteacher.net/USProjects/USQuizzes/Jackson2.htm" TargetMode="External"/><Relationship Id="rId4" Type="http://schemas.openxmlformats.org/officeDocument/2006/relationships/hyperlink" Target="http://www.historyteacher.net/USProjects/USQuizzes/ManifestDestiny2.htm" TargetMode="External"/><Relationship Id="rId5" Type="http://schemas.openxmlformats.org/officeDocument/2006/relationships/hyperlink" Target="http://www.historyteacher.net/USProjects/USQuizzes/GrowingCrisis1.htm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ractice Ques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izz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America &amp; the British Empir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66640" indent="-5666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Constitu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66640" indent="-5666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Jeffersonia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66640" indent="-5666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Jacks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66640" indent="-5666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Westward Expansionis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66640" indent="-5666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Growing Crisi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66640" indent="-5666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ivil Wa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66640" indent="-5666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econstruc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5:09:21Z</dcterms:created>
  <dc:creator>School District U46</dc:creator>
  <dc:description/>
  <dc:language>en-US</dc:language>
  <cp:lastModifiedBy>School District U46</cp:lastModifiedBy>
  <dcterms:modified xsi:type="dcterms:W3CDTF">2011-01-11T14:00:30Z</dcterms:modified>
  <cp:revision>3</cp:revision>
  <dc:subject/>
  <dc:title>Practice Questions</dc:title>
</cp:coreProperties>
</file>